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597-852C-4A28-92CD-491B3FA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4BE-D040-4311-BF93-6A38909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14E-960F-48E8-A942-E3612C54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3DB-2B46-4A34-A573-B1A0AA27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6C1-6A2E-4523-85E2-FE143CC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FB6-673B-4D14-AE14-CD63D905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BA8-7BE1-400D-B58E-48801E7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C57-406D-4EE1-A718-57C90B4E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14A-1954-4AD8-81E9-079AA232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AA1-6EC6-4962-9B22-2B00A51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007-6B77-4885-94CF-B21F8D8E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20D-5852-458A-AD68-686B47E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108-5E28-470F-9678-581F9A75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udiodirectcosmetics.com/cosmetics/theatrical-makeup.jpg&amp;imgrefurl=http://www.studiodirectcosmetics.com/cosmetics/theatrical-makeup.htm&amp;usg=__UWnTXSfSy07xuO2PpALLDLCKWBk=&amp;h=334&amp;w=500&amp;sz=46&amp;hl=en&amp;start=16&amp;um=1&amp;tbnid=CUzhvU7Qma0-jM:&amp;tbnh=87&amp;tbnw=130&amp;prev=/images%3Fq%3Dtheatrical%2Bmakeup%26hl%3Den%26safe%3Dstrict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lynchs.com/images/904.jpg&amp;imgrefurl=http://www.lynchs.com/item--Kryolan-Aquacolor-Makeup-br-UV-Colors--904.html&amp;usg=___5PtQb3eZFDJOuwvmpVAn2-sGeU=&amp;h=400&amp;w=400&amp;sz=39&amp;hl=en&amp;start=69&amp;um=1&amp;tbnid=FZQH_up-j4x2mM:&amp;tbnh=124&amp;tbnw=124&amp;prev=/images%3Fq%3Dtheatrical%2Bmakeup%26ndsp%3D20%26hl%3Den%26safe%3Dstrict%26sa%3DN%26start%3D60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artisticcostumes.com/backstage.jpg&amp;imgrefurl=http://www.artisticcostumes.com/&amp;usg=__iQxEgBEKJmbVHJkiVmwst9Ronp4=&amp;h=756&amp;w=504&amp;sz=150&amp;hl=en&amp;start=102&amp;um=1&amp;tbnid=qoe9ElDWWtUclM:&amp;tbnh=142&amp;tbnw=95&amp;prev=/images%3Fq%3Dtheatrical%2Bmakeup%26ndsp%3D20%26hl%3Den%26safe%3Dstrict%26sa%3DN%26start%3D100%26um%3D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www.stageservicesshop.com/shop/image.php%3Fproductid%3D16587&amp;imgrefurl=http://www.stageservicesshop.com/shop/catalog/Theatrical_Makeup-p-1-c-253.html&amp;usg=__2P0hfuY4BevQvRQ_RK_ttOw9aC8=&amp;h=409&amp;w=370&amp;sz=69&amp;hl=en&amp;start=129&amp;um=1&amp;tbnid=dRzC-_Q1fWM_sM:&amp;tbnh=125&amp;tbnw=113&amp;prev=/images%3Fq%3Dtheatrical%2Bmakeup%26ndsp%3D20%26hl%3Den%26safe%3Dstrict%26sa%3DN%26start%3D120%26um%3D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ages.google.com/imgres?imgurl=http://www.scholastic.com.au/titles/klutz/images/zoomed/cov_face_painting_z.jpg&amp;imgrefurl=http://www.scholastic.com.au/titles/klutz/face_painting.asp&amp;usg=__KVryQ37Nq6fbRr0nhnRlC1saSHM=&amp;h=290&amp;w=290&amp;sz=19&amp;hl=en&amp;start=136&amp;um=1&amp;tbnid=Olsoe9qbDgvHsM:&amp;tbnh=115&amp;tbnw=115&amp;prev=/images%3Fq%3Dtheatrical%2Bmakeup%26ndsp%3D20%26hl%3Den%26safe%3Dstrict%26sa%3DN%26start%3D120%26um%3D1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/imgres?imgurl=http://images01.tzimg.com/image.php%3FFilePath%3Dh3w4/1182301733_16460444.jpg%26Width%3D500&amp;imgrefurl=http://cosmeticbargains.com/&amp;usg=__d4w8K0DMYWSb54f9Bn9pcB_MjCo=&amp;h=375&amp;w=500&amp;sz=23&amp;hl=en&amp;start=163&amp;um=1&amp;tbnid=cFM2Grv9Qh2-qM:&amp;tbnh=98&amp;tbnw=130&amp;prev=/images%3Fq%3Dtheatrical%2Bmakeup%26ndsp%3D20%26hl%3Den%26safe%3Dstrict%26sa%3DN%26start%3D160%26um%3D1" TargetMode="External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2.jpeg"/><Relationship Id="rId20" Type="http://schemas.openxmlformats.org/officeDocument/2006/relationships/image" Target="../media/image13.jpeg"/><Relationship Id="rId21" Type="http://schemas.openxmlformats.org/officeDocument/2006/relationships/image" Target="../media/image14.jpeg"/><Relationship Id="rId22" Type="http://schemas.openxmlformats.org/officeDocument/2006/relationships/image" Target="../media/image15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7.jpeg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Blackadder ITC"/>
              </a:rPr>
              <a:t>Makeup Safe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Stormi Flores, Sarah Atchison, Aaron Cumins</a:t>
            </a:r>
            <a:r>
              <a:rPr b="0" lang="en-US" sz="3200" spc="-1" strike="noStrike">
                <a:solidFill>
                  <a:srgbClr val="ff0066"/>
                </a:solidFill>
                <a:latin typeface="Archite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700" spc="-1" strike="noStrike">
                <a:solidFill>
                  <a:srgbClr val="ff0066"/>
                </a:solidFill>
                <a:latin typeface="Broadway"/>
              </a:rPr>
              <a:t>FIN!</a:t>
            </a:r>
            <a:endParaRPr b="0" lang="en-US" sz="2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5189400"/>
            <a:ext cx="1981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a0000"/>
                </a:solidFill>
                <a:latin typeface="Chiller"/>
              </a:rPr>
              <a:t>	</a:t>
            </a:r>
            <a:r>
              <a:rPr b="0" lang="en-US" sz="8800" spc="-1" strike="noStrike">
                <a:solidFill>
                  <a:srgbClr val="ff0066"/>
                </a:solidFill>
                <a:latin typeface="Chiller"/>
              </a:rPr>
              <a:t>Makeup Safety the wise choice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ndy"/>
              </a:rPr>
              <a:t>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From make-up used by other perfor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Reactions from make-up: such as allergies, body sores &amp; loss of s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Reactions from aerosol sprays used in make-up applications: eyes, respiratory, rash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Hazards to health from aerosol sprays in close enclo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ndy"/>
              </a:rPr>
              <a:t>Hazards 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Old, used, bacteria laden, mislabeled m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Hazards from make-up placed in high heat 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Types of make-up that cover all pores of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Improper storage of make-up materials</a:t>
            </a: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ndy"/>
              </a:rPr>
              <a:t>Remaining Sa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ndy"/>
              </a:rPr>
              <a:t>Don’t share make-up with other perf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ndy"/>
              </a:rPr>
              <a:t>Don’t use aerosol sprays in close encl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ndy"/>
              </a:rPr>
              <a:t>Don’t use make-up that covers all pore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ndy"/>
              </a:rPr>
              <a:t>Make sure all make-up is label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ndy"/>
              </a:rPr>
              <a:t>Do not store make-up in warm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ndy"/>
              </a:rPr>
              <a:t>Remaining safe continu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Use individual eyeliners and eye make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Use disposable br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Hand out disposable &amp; individual spo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ndy"/>
              </a:rPr>
              <a:t>Any type of facial hair, sequins, or skullcaps must be disinfected before each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chitect"/>
              </a:rPr>
              <a:t>Makeup Safe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Slice cream sticks onto individual papers &amp; labe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Lipsticks can also be sliced &amp; labe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Supply pancakes &amp; powders in the smallest containers available</a:t>
            </a:r>
            <a:r>
              <a:rPr b="1" lang="en-US" sz="2800" spc="-1" strike="noStrike">
                <a:solidFill>
                  <a:srgbClr val="ff0066"/>
                </a:solidFill>
                <a:latin typeface="Archite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Powdered products provide a less viable environment for infec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Use individual applicators for mas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chitect"/>
              </a:rPr>
              <a:t>Makeup artists should wash hands before each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chitect"/>
              </a:rPr>
              <a:t>How this pertains to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chitect"/>
              </a:rPr>
              <a:t>Because in theatre actors &amp; actresses use theatrical makeup to make their character more 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6232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600200"/>
            <a:ext cx="1905120" cy="289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28800" y="1523880"/>
            <a:ext cx="3714840" cy="2962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12040" y="2133720"/>
            <a:ext cx="1731960" cy="259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2590920"/>
            <a:ext cx="193500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86400" y="609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0" y="4343400"/>
            <a:ext cx="2133720" cy="176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7467480" y="9144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Theatrical Makeup Kits, Ben ... "/>
          <p:cNvPicPr/>
          <p:nvPr/>
        </p:nvPicPr>
        <p:blipFill>
          <a:blip r:embed="rId15"/>
          <a:stretch/>
        </p:blipFill>
        <p:spPr>
          <a:xfrm>
            <a:off x="2362320" y="0"/>
            <a:ext cx="220968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Makeup - Theatrical quality ... "/>
          <p:cNvPicPr/>
          <p:nvPr/>
        </p:nvPicPr>
        <p:blipFill>
          <a:blip r:embed="rId16"/>
          <a:stretch/>
        </p:blipFill>
        <p:spPr>
          <a:xfrm>
            <a:off x="7467480" y="0"/>
            <a:ext cx="167652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Makeup - Theatrical quality ... "/>
          <p:cNvPicPr/>
          <p:nvPr/>
        </p:nvPicPr>
        <p:blipFill>
          <a:blip r:embed="rId17"/>
          <a:stretch/>
        </p:blipFill>
        <p:spPr>
          <a:xfrm>
            <a:off x="0" y="6105600"/>
            <a:ext cx="2133720" cy="75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 ... UK - Theatrical Makeup"/>
          <p:cNvPicPr/>
          <p:nvPr/>
        </p:nvPicPr>
        <p:blipFill>
          <a:blip r:embed="rId18"/>
          <a:stretch/>
        </p:blipFill>
        <p:spPr>
          <a:xfrm>
            <a:off x="4191120" y="4419720"/>
            <a:ext cx="205740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 ::: Dance &amp; Theatrical ... "/>
          <p:cNvPicPr/>
          <p:nvPr/>
        </p:nvPicPr>
        <p:blipFill>
          <a:blip r:embed="rId19"/>
          <a:stretch/>
        </p:blipFill>
        <p:spPr>
          <a:xfrm>
            <a:off x="2133720" y="5791320"/>
            <a:ext cx="20574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Make Up Application"/>
          <p:cNvPicPr/>
          <p:nvPr/>
        </p:nvPicPr>
        <p:blipFill>
          <a:blip r:embed="rId20"/>
          <a:stretch/>
        </p:blipFill>
        <p:spPr>
          <a:xfrm>
            <a:off x="2057400" y="4343400"/>
            <a:ext cx="2133720" cy="154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 ... Theatrical Supplies"/>
          <p:cNvPicPr/>
          <p:nvPr/>
        </p:nvPicPr>
        <p:blipFill>
          <a:blip r:embed="rId21"/>
          <a:stretch/>
        </p:blipFill>
        <p:spPr>
          <a:xfrm>
            <a:off x="4572000" y="0"/>
            <a:ext cx="28954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 woman in theatrical makeup ... "/>
          <p:cNvPicPr/>
          <p:nvPr/>
        </p:nvPicPr>
        <p:blipFill>
          <a:blip r:embed="rId22"/>
          <a:stretch/>
        </p:blipFill>
        <p:spPr>
          <a:xfrm>
            <a:off x="4343400" y="6858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for theatrical makeup fake ... "/>
          <p:cNvPicPr/>
          <p:nvPr/>
        </p:nvPicPr>
        <p:blipFill>
          <a:blip r:embed="rId23"/>
          <a:stretch/>
        </p:blipFill>
        <p:spPr>
          <a:xfrm>
            <a:off x="4000680" y="26668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for theatrical makeup fake ... "/>
          <p:cNvPicPr/>
          <p:nvPr/>
        </p:nvPicPr>
        <p:blipFill>
          <a:blip r:embed="rId24"/>
          <a:stretch/>
        </p:blipFill>
        <p:spPr>
          <a:xfrm>
            <a:off x="6248520" y="4724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 ... effects make-up, theatrical"/>
          <p:cNvPicPr/>
          <p:nvPr/>
        </p:nvPicPr>
        <p:blipFill>
          <a:blip r:embed="rId25"/>
          <a:stretch/>
        </p:blipFill>
        <p:spPr>
          <a:xfrm>
            <a:off x="7620120" y="47242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20:08:59Z</dcterms:created>
  <dc:creator> </dc:creator>
  <dc:description/>
  <dc:language>en-US</dc:language>
  <cp:lastModifiedBy> </cp:lastModifiedBy>
  <dcterms:modified xsi:type="dcterms:W3CDTF">2009-09-21T20:05:01Z</dcterms:modified>
  <cp:revision>7</cp:revision>
  <dc:subject/>
  <dc:title>Makeup Safety</dc:title>
</cp:coreProperties>
</file>